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28D1-2A99-426D-843A-CD052086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233-527D-4166-A61D-AC1C8A7D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AE4-9F84-43A9-A847-79C79EC1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8C10-B01C-4E85-AE54-1E58BD52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711-2E7E-4DE7-A933-7BB64181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2CC-1359-4A23-9BDD-993FB993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C35-EA90-453E-9EB7-6061D8E1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39B3-ECDF-4715-9DF1-62D35886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B9B-DE0A-4B32-8A6C-CB242FB3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901-E54C-4D8A-B8C4-2B3CF3B3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B07-5BFA-4FA4-9A28-1CBE17F7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E14-9064-4EFE-A93F-7D71C935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8365-DC4E-4082-ADA1-A8085A82973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prawozdanie z realizacji rocznego programu współpracy z organizacjami pozarządowymi oraz innymi podmiotami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 gminie Śrem w 2012 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XXI Sesja Rady Miejskiej w Śre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Śrem 2013 rok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523880" cy="1861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1981080" y="65448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5050"/>
                </a:solidFill>
                <a:latin typeface="Times New Roman"/>
              </a:rPr>
              <a:t>Urząd Miejski w Śremie, Pl.20 Października 1, 63-100 Ś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tel. 061 28 35 225; infolinia 0801 300 031; umiejski@srem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F4FC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85800" y="2286000"/>
          <a:ext cx="8153280" cy="2173320"/>
        </p:xfrm>
        <a:graphic>
          <a:graphicData uri="http://schemas.openxmlformats.org/drawingml/2006/table">
            <a:tbl>
              <a:tblPr/>
              <a:tblGrid>
                <a:gridCol w="533520"/>
                <a:gridCol w="2209680"/>
                <a:gridCol w="1371600"/>
                <a:gridCol w="1219320"/>
                <a:gridCol w="1371600"/>
                <a:gridCol w="1447560"/>
              </a:tblGrid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zacja wypoczynku letniego dla dzieci zamieszkałych na terenie gminy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poczynek dzieci i młodzież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3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1371600" cy="1712880"/>
          </a:xfrm>
          <a:prstGeom prst="rect">
            <a:avLst/>
          </a:prstGeom>
          <a:ln w="0">
            <a:noFill/>
          </a:ln>
        </p:spPr>
      </p:pic>
      <p:pic>
        <p:nvPicPr>
          <p:cNvPr id="79" name="44E0248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rganizacja wypoczynku letniego dla dziec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 młodzieży zamieszkałych na terenie gminy Śrem” gmina Śrem podpisała umowę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527040"/>
            <a:ext cx="1228680" cy="15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57200" y="2286000"/>
          <a:ext cx="8001000" cy="1859040"/>
        </p:xfrm>
        <a:graphic>
          <a:graphicData uri="http://schemas.openxmlformats.org/drawingml/2006/table">
            <a:tbl>
              <a:tblPr/>
              <a:tblGrid>
                <a:gridCol w="457200"/>
                <a:gridCol w="2209680"/>
                <a:gridCol w="3429000"/>
                <a:gridCol w="19051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wiązek Harcerstwa Polskiego Chorągiew Wielkopolska – Hufiec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krywcy letniej przygody”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rganizacja obozu harcerskiego w Pogorzelicy dla 30 zuchów i 30 harcerzy i harcerek. Wyjazd nad morze zapewnił uczestnikom możliwość poznania nowych, ciekawych turystycznie i krajobrazowo miejs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8054249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12640" y="1905120"/>
          <a:ext cx="8153640" cy="4190760"/>
        </p:xfrm>
        <a:graphic>
          <a:graphicData uri="http://schemas.openxmlformats.org/drawingml/2006/table">
            <a:tbl>
              <a:tblPr/>
              <a:tblGrid>
                <a:gridCol w="533520"/>
                <a:gridCol w="2133720"/>
                <a:gridCol w="1371600"/>
                <a:gridCol w="1218960"/>
                <a:gridCol w="1447920"/>
                <a:gridCol w="144792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1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rzenie warunków na rzecz integracji i zwiększenia udziału osób niepełnosprawnych w życiu społecznym poprzez organizację imprez kulturalnych oraz sportowo-rekreacyjnych, mających na celu usprawnianie oraz przygotowanie do aktywnego życia społeczneg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ziałalność na rzecz osób niepełnospraw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77" descr=""/>
          <p:cNvPicPr/>
          <p:nvPr/>
        </p:nvPicPr>
        <p:blipFill>
          <a:blip r:embed="rId1"/>
          <a:stretch/>
        </p:blipFill>
        <p:spPr>
          <a:xfrm>
            <a:off x="685800" y="307800"/>
            <a:ext cx="115884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B8FE2530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Tworzenie warunków na rzecz integracji 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  zwiększenia udziału osób niepełnosprawnych w życiu społecznym (…)” gmina Śrem podpisała umowy z następującymi organizacja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55480" y="914400"/>
            <a:ext cx="109872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09480" y="2590920"/>
          <a:ext cx="8153640" cy="2743200"/>
        </p:xfrm>
        <a:graphic>
          <a:graphicData uri="http://schemas.openxmlformats.org/drawingml/2006/table">
            <a:tbl>
              <a:tblPr/>
              <a:tblGrid>
                <a:gridCol w="457200"/>
                <a:gridCol w="1905120"/>
                <a:gridCol w="3962520"/>
                <a:gridCol w="18288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dacja Na Rzecz Rewaloryzacji Miasta Śr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ówka „Świat Bajkolandii”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wzięło w niej udział 140 dzieci niepełnosprawnych, wolontariusze, opiekunowie, przedstawiciele Fundacji oraz zaproszeni goście. Impreza organizowana jest od 19 l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0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mskie Stowarzyszenie Na Rzecz Osób Niepełnosprawnych TRÓJ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nus rehabilitacyjny CHMIELNO – wzięło w nim udział 45 osób, z czego 35 dzieci z niepełnosprawnością intelektualną w wieku 7-25 lat oraz 10 opiekunów. Dużą grupę stanowiły dzieci z rodzin o trudnej sytuacji materialnej i o utrudnionym dostępie do specjalistycznej terapii i rehabilitacj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1EEE2545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zafinansowa forma współp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afinansowe formy współpracy dotyczyły sf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acyjnej -  stworzenie skutecznego systemu przekazywania informacji dla i o organizacjach pozarządowych oraz innych podmiotach na stronie internetowej Urzędu Miejskiego w Śrem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rganizacyjnej -  konsultacje aktów prawa miejscoweg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koleniowej – przekazywanie informacji o propozycjach szkole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128268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06B0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ena oraz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fekty realizacji rocznego programu współprac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miny Śrem z organizacjami pozarządowymi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innymi podmiotami w 2012r.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realizowano wszystkie zadania powierzone organizacjom pozarządow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tacje wydatkowano zgodnie z przeznaczeni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ealizacji zadań działaniami objęto grupę 541 osó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wyniku realizacji zadań gmina Śrem zyskała na promocji, reklamie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tualizowano system przekazywania informacji dla i o organizacjach na stroni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rem.p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zakładce: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spółpraca z organizacjami pozarządowy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organizowano 7 imprez przez organizacje pozarządowe pod patronatem Burmistrza Śrem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zielono jednej rekomendacji organizacji pozarządowej, działającej na terenie gminy Śr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owano 14-krotnie o osiągnięciach i działalności realizowanych na rzecz gminy i jej mieszkańców przez organizacje pozarządowe oraz inne podmi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1128600" cy="1409400"/>
          </a:xfrm>
          <a:prstGeom prst="rect">
            <a:avLst/>
          </a:prstGeom>
          <a:ln w="0">
            <a:noFill/>
          </a:ln>
        </p:spPr>
      </p:pic>
      <p:pic>
        <p:nvPicPr>
          <p:cNvPr id="99" name="BA23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Dziękuję za uwagę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3773520" y="3886200"/>
            <a:ext cx="178920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17AD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oczny program współprac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z organizacjami pozarządowymi i innymi podmiotami na 2012r. został przyjęt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dniu 24 listopada 2011 r.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Uchwałą Nr 158/XVI/11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ady Miejskiej w Śremi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69884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39A6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 rocznym programie współpracy określono dwie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formy współpracy gminy Śrem z organizacjami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 pozarządowymi i innymi podmiot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32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inansową formę współpracy, która polegała na zlecaniu organizacjom pozarządowym i innym podmiotom zadań, na których realizację gmina udzieliła dofinansowan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afinansową formę współpracy, która dotyczyła sfer: informacyjnej, organizacyjnej oraz szkoleniowe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B18B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Finansowa forma współ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2012r. zrealizowane zostały zadania publicz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następujących zakres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zakresie kultury, sztuki, ochrony dóbr kultu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 dziedzictwa narodoweg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) w zakresie pomocy społecznej, w tym pomo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dzinom i osobom w trudnej sytuacji życiowej o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ównywania szans tych rodzin i osó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w zakresie wypoczynku dzieci i młodzież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) w zakresie działalności na rzecz osób niepełnospraw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09480" y="291960"/>
            <a:ext cx="1519200" cy="1765440"/>
          </a:xfrm>
          <a:prstGeom prst="rect">
            <a:avLst/>
          </a:prstGeom>
          <a:ln w="0">
            <a:noFill/>
          </a:ln>
        </p:spPr>
      </p:pic>
      <p:pic>
        <p:nvPicPr>
          <p:cNvPr id="55" name="491B234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ultura, sztuka, ochrona dóbr kultury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i dziedzictwa narod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57400"/>
          <a:ext cx="8077320" cy="3351240"/>
        </p:xfrm>
        <a:graphic>
          <a:graphicData uri="http://schemas.openxmlformats.org/drawingml/2006/table">
            <a:tbl>
              <a:tblPr/>
              <a:tblGrid>
                <a:gridCol w="533520"/>
                <a:gridCol w="1600200"/>
                <a:gridCol w="1295280"/>
                <a:gridCol w="1295280"/>
                <a:gridCol w="1600200"/>
                <a:gridCol w="175284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, śpiewu oraz tań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252" descr=""/>
          <p:cNvPicPr/>
          <p:nvPr/>
        </p:nvPicPr>
        <p:blipFill>
          <a:blip r:embed="rId1"/>
          <a:stretch/>
        </p:blipFill>
        <p:spPr>
          <a:xfrm>
            <a:off x="685800" y="492120"/>
            <a:ext cx="126540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34482358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nia pn. „Szkolenia muzyczne w zakresie gry n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instrumentach, śpiewu oraz tańca” gmina Śrem podpisała umowy z następującymi organizacjam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2304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457200" y="1828800"/>
          <a:ext cx="8153280" cy="486108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819160"/>
                <a:gridCol w="160020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osobowa grupa młodzieży uczęszczała na zajęcia gry na instrumentach dęt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tańc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dziewcząt ze szkół podstawowych pobierało nieodpłatnie lekcje tań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ór CORDA COR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w zakresie śpiewu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-osobowa grupa chórzystów szkoliła się w zakresie śpiewu. Celem zadania było podniesienie umiejętności wokalnych członków chóru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warzyszenie CANTAVI AD HOMI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śpiewu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członków chóru muzyki dawnej szkoliło się w zakresie śpiewu w ilości 6-spotkań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godzinn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1CFE238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667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moc społeczna, w tym pomoc rodzinom osobom w trudnej                             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                sytuacji życiowej oraz wyrównywanie szans tych rodzin i osób</a:t>
            </a:r>
            <a:br>
              <a:rPr sz="20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(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adanie realizowane przez Ośrodek Pomocy Społecznej w Śre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11728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57200" y="1782720"/>
          <a:ext cx="8229600" cy="4846680"/>
        </p:xfrm>
        <a:graphic>
          <a:graphicData uri="http://schemas.openxmlformats.org/drawingml/2006/table">
            <a:tbl>
              <a:tblPr/>
              <a:tblGrid>
                <a:gridCol w="533520"/>
                <a:gridCol w="1904760"/>
                <a:gridCol w="1295640"/>
                <a:gridCol w="1218960"/>
                <a:gridCol w="1447920"/>
                <a:gridCol w="182880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i specjalistycznych usług opiekuńczych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z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z zaburzeniami psychiczny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4 246,32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cz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z budżetu gm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pozyskane z Urzędu Wojewódzk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4133242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ń pn. „Świadczenie usług opiekuńczych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specjalistycznych usług opiekuńczych” gmina Śr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dpisała umowę z organizacj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762120" y="401760"/>
            <a:ext cx="1341360" cy="167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685800" y="2209680"/>
          <a:ext cx="7848720" cy="3008520"/>
        </p:xfrm>
        <a:graphic>
          <a:graphicData uri="http://schemas.openxmlformats.org/drawingml/2006/table">
            <a:tbl>
              <a:tblPr/>
              <a:tblGrid>
                <a:gridCol w="457200"/>
                <a:gridCol w="2133720"/>
                <a:gridCol w="3886200"/>
                <a:gridCol w="137160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specjalistycznych usług opiekuńczych –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osobie samotnej lub osobie, która z powodu wieku, choroby lub innych przyczyn wymaga pomocy innych osób tj. asystenta osoby niepełnosprawnej i opiekunki. Usługi opiekuńcze świadczone są w zakresie: opieki higienicznej, pielęgnacji, kontakt z otoczeni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ieką zostało objętych łącznie 78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 511,92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BB642436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Świadczenie specjalistycznych usług opiekuńczych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dla osób z zaburzeniami psychicznymi” gmina Śrem podpisał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mowę z organizacj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27944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" y="2209680"/>
          <a:ext cx="8305920" cy="3268800"/>
        </p:xfrm>
        <a:graphic>
          <a:graphicData uri="http://schemas.openxmlformats.org/drawingml/2006/table">
            <a:tbl>
              <a:tblPr/>
              <a:tblGrid>
                <a:gridCol w="533520"/>
                <a:gridCol w="2666880"/>
                <a:gridCol w="29718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zaburzeniami psychicznymi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w zakresie: uczenia i rozwijania umiejętności niezbędnych do samodzielnego życia, pielęgnacji, rehabilitacji fizycznej, pomocy mieszkaniowej. Łącznie świadczeniami w 2012r. objętych było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88F42452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gnieszka Doberstein-Bednarska</cp:lastModifiedBy>
  <dcterms:modified xsi:type="dcterms:W3CDTF">2013-03-08T13:36:52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